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3EBF7-529D-4C25-A58B-C2D466C52AA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17832-EC61-4127-AE9E-C336C09C1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30CF2-718B-4E9A-9BB2-3966A8831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8B7-B88E-461D-93C3-1B73C1D50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146D-51A9-4930-A31D-206ECE41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2B89-63E0-420A-A65A-A9EB29CA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C99B-4D2C-4629-9B73-0FFEC5FA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A30-C912-4A44-B893-181CB503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276-5E23-4EC2-A378-BF6C506D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06B6-1AF1-4CDB-BE55-B219F3D5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8A9-7070-4863-A7E8-2D987A91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8CC-3A0D-4A4F-B57A-97FA50C4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447E-9FC3-4F3F-ADE2-D2D69BE8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9E2-4822-4411-A40A-55CE3DB3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D6AD-D589-4074-94C4-113F3CB8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DCF7D5-5057-40FB-808D-74B02C8441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27893-F4F7-4286-949A-FD9530CB0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ache Indi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Sean Goins and Katy H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s. Smal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0/21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od and Hun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51080"/>
            <a:ext cx="822960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ache hunted and gathered deer, rabbit, berries, nuts, vegetables, fruits, and buffa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unted with bows and arrows, knives/axes and g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imagesCA2HD3WB.jpg"/>
          <p:cNvPicPr/>
          <p:nvPr/>
        </p:nvPicPr>
        <p:blipFill>
          <a:blip r:embed="rId1"/>
          <a:stretch/>
        </p:blipFill>
        <p:spPr>
          <a:xfrm>
            <a:off x="5881680" y="3508200"/>
            <a:ext cx="2633760" cy="290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weapons.jpg"/>
          <p:cNvPicPr/>
          <p:nvPr/>
        </p:nvPicPr>
        <p:blipFill>
          <a:blip r:embed="rId2"/>
          <a:stretch/>
        </p:blipFill>
        <p:spPr>
          <a:xfrm>
            <a:off x="662040" y="3681360"/>
            <a:ext cx="48769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ily Life and Activ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women took care of the children and made clothing. They prepared and cooked the food, gathered fruits, vegetables, and firewood. They also gathered the grasses for making baske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ache men hunted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ed for comb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imagesCA8NV2CJ.jpg"/>
          <p:cNvPicPr/>
          <p:nvPr/>
        </p:nvPicPr>
        <p:blipFill>
          <a:blip r:embed="rId1"/>
          <a:stretch/>
        </p:blipFill>
        <p:spPr>
          <a:xfrm>
            <a:off x="4948200" y="3693960"/>
            <a:ext cx="354636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lief and Wo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d two cultural here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/Fire and Water/Moon/Thunder- these were believed to destroy harmful creatur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ine Men, Sand Pa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irital Dances to ward off evil spirits, bring rain, and grow healthy cr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the Apache known fo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rriors and Surviv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tle and affectionate with there own tri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lued there children/yo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changed for the Apache as Settlers Arriv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ived by adopting certain customes and learning to use trade with goods and cro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tually they had to raid and loot to survive until the U.S military engaged in fierce battles until most were captured and shipped to reservation cam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ions and Celeb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iritual ceremonies were a big part of life. The Medicine Man or Shaman of the tribe would perform Long Life, Healing, and War ceremon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lder would pass down a Code of Honor to the young through example and teac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ibutions to Tex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ught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ing and crop cult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ibuted to trade and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apaches.jpg"/>
          <p:cNvPicPr/>
          <p:nvPr/>
        </p:nvPicPr>
        <p:blipFill>
          <a:blip r:embed="rId1"/>
          <a:stretch/>
        </p:blipFill>
        <p:spPr>
          <a:xfrm>
            <a:off x="528480" y="3121200"/>
            <a:ext cx="54835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wikipedia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mericanindianoriginal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kidinfo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texasindian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4:15:50Z</dcterms:created>
  <dc:creator>Sean Goins</dc:creator>
  <dc:description/>
  <dc:language>en-US</dc:language>
  <cp:lastModifiedBy>Sean Goins</cp:lastModifiedBy>
  <dcterms:modified xsi:type="dcterms:W3CDTF">2011-10-21T18:51:50Z</dcterms:modified>
  <cp:revision>29</cp:revision>
  <dc:subject/>
  <dc:title>Apache</dc:title>
</cp:coreProperties>
</file>